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38E1-7423-4C48-A681-C70723052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BCEA-C02B-49ED-95DE-454B88F419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7D71-E041-45CD-8970-1868977910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C5E2-48A0-445C-84C7-4DFD3625F2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8F70-E36E-4AF7-A4E0-8A1C9FFAE6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2EF8-E6B5-4190-BB13-70827CAAC0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5798-7B49-4F0A-8F7A-BEF807EA5A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43F8-F015-42B4-8876-1D573B0E72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DE03-322A-4286-901B-2FD1FF96A6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1492-004A-4DFE-8CB1-8ACB378956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CD1E-2D25-4F4B-B5F9-2C8F8EA84E0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184B0-DD46-4C73-BBE5-95E8BC804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F15E-095B-47EB-948D-39F021A980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3DA44-74F0-412C-9D48-BC2D0DDE8B6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80A04-E369-4351-8227-36D2C0C5DF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EA0D2-E5D0-4E03-924F-8AC6A8DF4F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7FCF0-552B-4D7D-85B0-71E692F9546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6736D-1CE4-4D75-9E23-2CBC6898F5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9DA65-81EB-4156-98C1-D32E56040B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01DA8-2F66-4FE8-868E-ACCE5B8834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EE8B2-A8A9-4B69-A9CC-C73B22D02E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55F06-3266-4041-8CD2-5CAD9F0143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B8190-5388-4A0B-9510-32EE39CB1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69FC-F1A2-426C-9BFB-F69CE0F8087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3EDEE-68F2-4DD5-9FBC-C0F293CDD0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39C8D-E459-4889-86DB-D3F2EF946C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35BAF-79AC-480C-A955-B343EC60657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9667D-3E1D-40A5-9531-1B67595E0C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7ED18-0226-43A6-B65C-5ABF8F1737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A9946-6E6F-4FA7-863E-33CEF16694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781C7-AD89-4A19-98C8-FF5085805D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72166-F7B7-4D7A-BAF1-AD67FD278F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65056-4183-4856-8941-B664E46A80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2D1F0-A5C8-4E8B-A181-DAABAB0D9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03C7-E45F-42E8-BFD6-7445D843E7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662C2-58A7-452A-BBE4-6F799779E28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C81D7-215E-40B2-8CA4-2A57650140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3160B-C969-41EA-8538-677EAFF90A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65D0-E641-4E44-A495-1D5054755F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B063-D601-43A0-9881-D9846EC38F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4747-861A-43DA-B8A1-D140539B663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3DD7-9434-4B47-A115-D520E11A34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22D7-6A6F-4783-9253-EE269F519C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4F22-A3B0-4435-8D82-75060F7FAE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DEFF-2115-4D3C-91F8-E919B030D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36FE-5716-401D-84A3-16B89267D61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5811-99D3-40F1-B711-6A475A1463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C4B1-788F-4C8F-81F2-6EF6FA93FB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4392-8670-40B7-AAE6-6DDA736D9E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E814-E3BB-422F-9904-F81FF92A7E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EFC0-79F2-4BDF-AAD6-CAEB2C05D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B578-2BBE-4467-BD9A-39985E701E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CF1C-C10E-44F6-A0FD-33691A057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0917-2438-40AD-BB18-882A998259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1B43-0045-4365-98A3-070E1C135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E831-A0E2-4688-A2C6-766D0C3A4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F4A6-593F-4B8F-AA5A-0B9AE5B86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CF33-CA91-4F37-9418-AD8BCE408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562B-4D93-4F63-9DEA-A1597D1AB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4603-5B05-4681-BCA0-863B2690D8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9A44-C24E-43BA-AB76-9041C3648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AFDF-872A-4BDC-B01D-588CBFEE95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64D-333E-4B83-A738-F45DD51CE4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E34-152A-4188-9268-36123FF715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C7B-218A-4C0A-8690-1C73EDEDD7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CCA-D774-49C0-8B2F-A951C28FF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AE9-0BCE-4D63-AABD-8A17ADABB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EEC5-3E46-474E-A5A2-E24874EF09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E6A-1CBD-4CA2-BBC5-293170E041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508-6443-41ED-9510-801E9E6F71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DBF-F2FC-4E0A-A766-C27E448AEE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CF0-BFF2-4DB4-9909-85746D09A9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32F-267E-4386-86FA-2A2394504A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38F-50CA-4715-839A-91559DF156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BA5-1364-4D13-B1CA-8B816C4E11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A0CB8-1F20-48B6-94EE-239B5937FF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EBDB8-52AF-4DF6-95D9-5486B40CFB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55EC-C7BF-48EF-A584-89642F4BF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4F18-91CA-479D-9B8D-673C4D4A92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9A89-14CF-4984-959C-F02F2D2757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95D36-638A-4316-9C93-3F7175F780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51CC-CE6D-4F9E-A10E-B00CF751EA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7FF8E-ED2A-4B42-88C0-A6705AC00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ECB83-E194-4AA3-B322-79C1F66242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95E53-E038-4229-AA30-8C0ADB5047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6370A-1C03-4F60-A75C-990643727C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E74BB-B5BE-4822-8318-6857E89241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5516-70F9-4E12-9B3E-0135248F5C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9461-DFF0-4049-84A5-5EC037AC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4FEA-DFBC-4398-A80E-8DA1E81907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EF4EB-6327-462A-A2BC-96749C8CC5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7D3B-5D8C-42E6-AAE9-57BC36A785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2155-4131-44D3-9B90-51E363B310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3BA51-3E97-42E7-82AB-49FCE5387F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4A78-4833-45CF-BDAB-EDEBE13DD5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C18F1-F935-44D9-AE42-165C272F23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10AB8-ED41-4B63-A46D-EFB128D2E0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839C0-0014-4220-8DB5-6A6D2D365E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1D2D9-11F4-45C2-9CCA-8D2C3449AA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B24DA-EE46-465E-BF11-5FE4A739A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289F-6DD2-4D69-99F6-1223E45754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5B1E3-FE75-4DCC-8185-9200E88EBC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0B1-F561-4192-9D64-4FEBB7C7B1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0E57-FD73-44A7-B0A9-8472689F15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1B5-4776-4482-9D4A-73BA740414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56E-E315-4538-B26A-4455B6F173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2BBC-E9BA-42B8-879F-BC05A338AB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854F-B6CF-43E2-8E25-A9B944EE31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26AB-A12D-4CBE-9931-D20A299153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27CA-77A5-42CD-AAF1-FDA637CC13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0A1-9C91-4E6B-A2DB-8311FEC37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4B47-5EFF-46BF-9523-A5C2829BE1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749-B54E-45EE-9449-42F243082C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510-D4CD-4987-BDCA-B63B3B9FCE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9613-AE3E-4667-B009-8F1CE4814F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E33E1-D648-4FEC-834D-B614B30E31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2194F-01C0-4A9D-917D-428C9F3EE4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B19DC-72CA-4869-945A-1B2E1C0940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DD4C3-3A31-4E34-90AE-69FB105914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2D5FA-C53F-4FE6-9738-3C40FF42A3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66DD5-7AB9-4D67-BD94-A5A7DC9EE7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C7BBD-9C37-459B-B13E-A8A334F14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11C6-0C27-4730-ACC0-C3BCADE1DB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7F030-1606-475A-B234-FEC18F1B39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54295-9985-447C-8518-0031F04BF2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AD768-C2A9-4D6B-BF12-10D8EA027A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4A9B7-FF53-4253-B10A-70A3BC9127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B039D-AC7A-41A6-9F31-D7001CA733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1C3E3-61A5-4B06-865E-89FB445EDB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1E910-AB64-4A51-A4F7-B2F4B679BA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B3373-7B9B-478E-A0C8-E57B4C1C5A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7F120-3A48-4B66-8BFB-F9F986CBD88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E90EC-1B7A-4043-85F9-3391FD0A4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941D-344D-487E-87A5-3EA4A21EDD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2E2C7-A608-4782-BA10-3C4EC55463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5CAFE-4DBA-4CBD-A600-0E11B2B68D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AB0B7-A4C4-41DC-BAAD-27C3EDD988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E3DCB-92F3-44D8-8D72-3C4439F97C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A43C4-36D8-45ED-99A3-330AB00926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39CCC-0B2C-49E1-BE5A-A2C9C9EBA87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65A8B-2F5F-4859-A262-2C2512B2A4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F6E9-D7FF-448F-8286-639ACC6508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B8BC-AC34-445C-93A6-E2B63D4A32A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A708-6976-49E3-940C-C2C48BA82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Bradley Hand ITC TT-Bold"/>
                <a:ea typeface="Stone Sans ITC TT-Sem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6CA0E-C6D4-4508-B33C-E00B1FC42742}" type="slidenum">
              <a:rPr b="0" lang="en-US" sz="1200" spc="-1" strike="noStrike">
                <a:solidFill>
                  <a:srgbClr val="000000"/>
                </a:solidFill>
                <a:latin typeface="Bradley Hand ITC TT-Bold"/>
                <a:ea typeface="Stone Sans ITC TT-Semi"/>
              </a:rPr>
              <a:t>&lt;number&gt;</a:t>
            </a:fld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4E160-A870-4F42-82A4-DF1E870464B8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F6207-CF55-44D2-B176-23BC8F9E5827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304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1EC43-FA9A-46DA-AA46-F862D00A7C88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304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0E5F4-582D-4C54-B5F6-CA7CBED0291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35686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596C8-498F-46A6-B7C4-0248C6E4783D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7180200"/>
            <a:ext cx="114285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15611-5AF6-4C4B-BAD7-4016EE9377F0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13003200" cy="9752040"/>
            <a:chOff x="0" y="0"/>
            <a:chExt cx="13003200" cy="97520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3200" cy="9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2840" cy="605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9360"/>
            <a:ext cx="6246720" cy="357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480"/>
            <a:ext cx="6246720" cy="558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DB82B-CBDF-4979-A905-3C91B249D763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920" y="-1914480"/>
            <a:ext cx="4633920" cy="1573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9B912-F525-4F5B-8EF2-0043749C2050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304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BB5C7-A8DE-4F6F-A6E2-0D5AA84F097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920" y="-1914480"/>
            <a:ext cx="4633920" cy="1573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8B0A1-5BAA-46BC-A0A7-E05057E79C3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3840"/>
            <a:ext cx="368136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E5445-572F-4488-B47A-C9ECE6C98BC1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Elements, Atoms &amp; Ions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C870-7E81-4A3B-9311-B32C06ECFD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19C7-67E2-4403-AECA-8B610098D3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571680" y="666108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-355680" y="3772080"/>
            <a:ext cx="965160" cy="39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893C-5A1B-4CD5-8F8C-73B328D5EF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9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D941-ABD6-46E3-A483-1A343715508C}" type="slidenum">
              <a:t>12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7 are diatomic molecules</a:t>
            </a:r>
            <a:endParaRPr b="0" lang="en-US" sz="36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B8E5-230E-41C8-9E43-566213A6D333}" type="slidenum">
              <a:t>13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22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6E36-473E-4C75-A533-76A22D912891}" type="slidenum">
              <a:t>14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68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2DE0-7592-4F88-8E0F-0F5A4985F7BC}" type="slidenum">
              <a:t>15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0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0BF1-E4A0-42E4-AE56-5DE3FB3ADC1F}" type="slidenum">
              <a:t>16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4469-9333-4A0A-8B7E-5597641CEB7D}" type="slidenum">
              <a:t>1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8 of the known elements ar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0E7B-334A-43C6-BBCB-58807E3140CD}" type="slidenum">
              <a:t>18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0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4873-34B0-4A53-AAC1-F47871731B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C78D-0DCD-4559-8A5E-CF4CD5C67D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12B-353E-46B0-95AB-3B94E3E35EC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element is a substance that can not be broken-down into simpler substances by chemical mea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8779-5305-44C6-8A5D-CC003E9264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47A2-365A-481D-8DE9-EB90422DA5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118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3C22-A9B9-4BF7-B376-B1371C88CEC9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49BC-AA3F-4E48-9FDB-55CF400275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3" name="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5" name="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356000" y="6870600"/>
            <a:ext cx="430200" cy="1712880"/>
            <a:chOff x="4356000" y="6870600"/>
            <a:chExt cx="430200" cy="1712880"/>
          </a:xfrm>
        </p:grpSpPr>
        <p:sp>
          <p:nvSpPr>
            <p:cNvPr id="487" name=""/>
            <p:cNvSpPr/>
            <p:nvPr/>
          </p:nvSpPr>
          <p:spPr>
            <a:xfrm>
              <a:off x="4356000" y="687060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6000" y="824220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56000" y="7353360"/>
            <a:ext cx="430200" cy="1636560"/>
            <a:chOff x="4356000" y="7353360"/>
            <a:chExt cx="430200" cy="1636560"/>
          </a:xfrm>
        </p:grpSpPr>
        <p:sp>
          <p:nvSpPr>
            <p:cNvPr id="490" name=""/>
            <p:cNvSpPr/>
            <p:nvPr/>
          </p:nvSpPr>
          <p:spPr>
            <a:xfrm>
              <a:off x="4356000" y="735336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56000" y="864864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3C3F-C44B-4EDC-8E59-B766397F5E48}" type="slidenum">
              <a:t>7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 fill="hold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 fill="hold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rot="5400000">
            <a:off x="4966920" y="393696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534132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57099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8" name=""/>
          <p:cNvSpPr/>
          <p:nvPr/>
        </p:nvSpPr>
        <p:spPr>
          <a:xfrm rot="5400000">
            <a:off x="60782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64594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68529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72212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576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79326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2882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864360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901188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936720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973548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1010376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1047204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1" name=""/>
          <p:cNvSpPr/>
          <p:nvPr/>
        </p:nvSpPr>
        <p:spPr>
          <a:xfrm rot="5400000">
            <a:off x="1084032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1120932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0E42-6DC4-4602-BD2C-7CDD4F052E88}" type="slidenum">
              <a:t>8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0BF7-F1A0-4575-9DC0-5DC25721C7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